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B1F-86E8-4790-B610-2EF9068F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395-470F-4A26-931B-7984B57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FBC-BC4F-46ED-90EB-0BA5B4DC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DBE-2A66-47AB-A7EB-0D1BBB87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DE7-BB4D-4F36-82A9-BB9FEE7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F2A-4DA1-496D-93D6-D66308D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FE0-2DA9-4B09-B2B8-0A49B58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742-C165-4C29-90BA-7E65ABB1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B31-B3DF-4CA8-89C5-6C00769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411-5DA4-4D5E-8FDF-28C92B7C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6CD-8C15-460D-9B7D-8744664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0A1-7803-406F-82F5-98CA00A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1450-7457-4247-A844-9103A5405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gonometry on a unit circ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1886040" y="1332000"/>
            <a:ext cx="5429160" cy="552456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6"/>
          <p:cNvSpPr/>
          <p:nvPr/>
        </p:nvSpPr>
        <p:spPr>
          <a:xfrm>
            <a:off x="4598280" y="1333440"/>
            <a:ext cx="3240" cy="552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9"/>
          <p:cNvSpPr/>
          <p:nvPr/>
        </p:nvSpPr>
        <p:spPr>
          <a:xfrm flipV="1">
            <a:off x="1885320" y="4094280"/>
            <a:ext cx="54291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25"/>
          <p:cNvSpPr/>
          <p:nvPr/>
        </p:nvSpPr>
        <p:spPr>
          <a:xfrm flipV="1">
            <a:off x="4605480" y="2141280"/>
            <a:ext cx="1947600" cy="193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4800600" y="3633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5021280" y="3654360"/>
            <a:ext cx="235080" cy="451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2"/>
          <p:cNvSpPr/>
          <p:nvPr/>
        </p:nvSpPr>
        <p:spPr>
          <a:xfrm>
            <a:off x="6552360" y="2141640"/>
            <a:ext cx="33480" cy="1933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3"/>
          <p:cNvSpPr/>
          <p:nvPr/>
        </p:nvSpPr>
        <p:spPr>
          <a:xfrm>
            <a:off x="6276960" y="377028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4"/>
          <p:cNvSpPr/>
          <p:nvPr/>
        </p:nvSpPr>
        <p:spPr>
          <a:xfrm>
            <a:off x="6278400" y="3770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5"/>
          <p:cNvSpPr/>
          <p:nvPr/>
        </p:nvSpPr>
        <p:spPr>
          <a:xfrm>
            <a:off x="5181480" y="270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6"/>
          <p:cNvSpPr/>
          <p:nvPr/>
        </p:nvSpPr>
        <p:spPr>
          <a:xfrm>
            <a:off x="6553080" y="1789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7315200" y="3770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Cambria Math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8"/>
          <p:cNvSpPr/>
          <p:nvPr/>
        </p:nvSpPr>
        <p:spPr>
          <a:xfrm>
            <a:off x="4191120" y="84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Cambria Math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9"/>
          <p:cNvSpPr/>
          <p:nvPr/>
        </p:nvSpPr>
        <p:spPr>
          <a:xfrm>
            <a:off x="338616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59480" y="208584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4524480" y="40100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gonometry on a unit circ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1886040" y="1332000"/>
            <a:ext cx="5429160" cy="552456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6"/>
          <p:cNvSpPr/>
          <p:nvPr/>
        </p:nvSpPr>
        <p:spPr>
          <a:xfrm>
            <a:off x="4598280" y="1333440"/>
            <a:ext cx="3240" cy="552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"/>
          <p:cNvSpPr/>
          <p:nvPr/>
        </p:nvSpPr>
        <p:spPr>
          <a:xfrm flipV="1">
            <a:off x="1885320" y="4094280"/>
            <a:ext cx="54291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5"/>
          <p:cNvSpPr/>
          <p:nvPr/>
        </p:nvSpPr>
        <p:spPr>
          <a:xfrm flipH="1" flipV="1">
            <a:off x="2971800" y="1904760"/>
            <a:ext cx="1633680" cy="22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4572000" y="3666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5"/>
          <p:cNvSpPr/>
          <p:nvPr/>
        </p:nvSpPr>
        <p:spPr>
          <a:xfrm>
            <a:off x="3581280" y="2362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274320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7315200" y="3770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Cambria Math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8"/>
          <p:cNvSpPr/>
          <p:nvPr/>
        </p:nvSpPr>
        <p:spPr>
          <a:xfrm>
            <a:off x="4191120" y="84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Cambria Math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4340160" y="3700440"/>
            <a:ext cx="536760" cy="392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1"/>
          <p:cNvSpPr/>
          <p:nvPr/>
        </p:nvSpPr>
        <p:spPr>
          <a:xfrm>
            <a:off x="4529160" y="402732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2"/>
          <p:cNvSpPr/>
          <p:nvPr/>
        </p:nvSpPr>
        <p:spPr>
          <a:xfrm>
            <a:off x="2903400" y="182088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gonometry on a unit circ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1886040" y="1332000"/>
            <a:ext cx="5429160" cy="5524560"/>
          </a:xfrm>
          <a:prstGeom prst="ellipse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6"/>
          <p:cNvSpPr/>
          <p:nvPr/>
        </p:nvSpPr>
        <p:spPr>
          <a:xfrm>
            <a:off x="4598280" y="1333440"/>
            <a:ext cx="3240" cy="552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9"/>
          <p:cNvSpPr/>
          <p:nvPr/>
        </p:nvSpPr>
        <p:spPr>
          <a:xfrm flipV="1">
            <a:off x="1885320" y="4094280"/>
            <a:ext cx="54291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25"/>
          <p:cNvSpPr/>
          <p:nvPr/>
        </p:nvSpPr>
        <p:spPr>
          <a:xfrm flipV="1">
            <a:off x="4605480" y="2141640"/>
            <a:ext cx="1914480" cy="19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7315200" y="3770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Cambria Math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4191120" y="84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Cambria Math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4529160" y="402732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5"/>
          <p:cNvSpPr/>
          <p:nvPr/>
        </p:nvSpPr>
        <p:spPr>
          <a:xfrm flipH="1" flipV="1">
            <a:off x="2680920" y="2141640"/>
            <a:ext cx="197820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9"/>
          <p:cNvSpPr/>
          <p:nvPr/>
        </p:nvSpPr>
        <p:spPr>
          <a:xfrm flipH="1">
            <a:off x="2680920" y="4157640"/>
            <a:ext cx="1870200" cy="18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33"/>
          <p:cNvSpPr/>
          <p:nvPr/>
        </p:nvSpPr>
        <p:spPr>
          <a:xfrm flipH="1" flipV="1">
            <a:off x="4575240" y="4079880"/>
            <a:ext cx="1944720" cy="19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9"/>
          <p:cNvSpPr/>
          <p:nvPr/>
        </p:nvSpPr>
        <p:spPr>
          <a:xfrm>
            <a:off x="2619360" y="205416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0"/>
          <p:cNvSpPr/>
          <p:nvPr/>
        </p:nvSpPr>
        <p:spPr>
          <a:xfrm>
            <a:off x="1800360" y="40244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1"/>
          <p:cNvSpPr/>
          <p:nvPr/>
        </p:nvSpPr>
        <p:spPr>
          <a:xfrm>
            <a:off x="4524480" y="125244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2"/>
          <p:cNvSpPr/>
          <p:nvPr/>
        </p:nvSpPr>
        <p:spPr>
          <a:xfrm>
            <a:off x="6437160" y="20574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3"/>
          <p:cNvSpPr/>
          <p:nvPr/>
        </p:nvSpPr>
        <p:spPr>
          <a:xfrm>
            <a:off x="2619360" y="596916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4"/>
          <p:cNvSpPr/>
          <p:nvPr/>
        </p:nvSpPr>
        <p:spPr>
          <a:xfrm>
            <a:off x="4524480" y="67816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5"/>
          <p:cNvSpPr/>
          <p:nvPr/>
        </p:nvSpPr>
        <p:spPr>
          <a:xfrm>
            <a:off x="6448320" y="598644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6"/>
          <p:cNvSpPr/>
          <p:nvPr/>
        </p:nvSpPr>
        <p:spPr>
          <a:xfrm>
            <a:off x="7242120" y="401004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4800600" y="3633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5021280" y="3654360"/>
            <a:ext cx="235080" cy="451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wing points along a circle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teps = 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adius = 2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angle = 2*PI/step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teps; i++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x = cos(angle*i)*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y = sin(angle*i)*radiu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raw a point every 1/8th of a cir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lipse(x, y, 10, 1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ments are executed one at a time in the order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r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s and initial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up() called o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w() called repeated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y mouse or keyboard events occur, the corresponding functions are call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lls to draw() – exact timing can not be guarante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Scop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gion of code in which a particular variable is acce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 first approximation, the scope of a section of your code is demarcated by { and }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able is only accessible/available within the scope in which it is decla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Lifetim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cannot be referenced before they are decla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able is created and initialized when a program enters the block in which it is decla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nction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able is destroyed when a program exists the block in which it was decla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bal variab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s that are declared outside of any scope are considered globals (versus local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variables should be declared at the top of your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sprinkle them between functio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dowing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re is a name conflict between variables of different sc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y = x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flicting variables can not have different types (or it’s considered a re-declaration and is not allow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adowed, smaller (inner) scopes have precedence over larger (outer) sc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04920" y="87480"/>
            <a:ext cx="48006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20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(200, 2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(5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(25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Lo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(a, 0, a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a=50; a&lt;80; a += 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(a, 0, a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(a, 0, a, height)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AnotherLin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AnotherLine(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YetAnotherLin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YetAnother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AnotherLin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 = 18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(a, 0, a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YetAnotherLin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(a+2, 0, a+2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474480"/>
            <a:ext cx="4495680" cy="59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draw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s of Trigonometr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5"/>
          <p:cNvSpPr/>
          <p:nvPr/>
        </p:nvSpPr>
        <p:spPr>
          <a:xfrm flipH="1">
            <a:off x="2588760" y="1297080"/>
            <a:ext cx="3240" cy="441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3"/>
          <p:cNvSpPr/>
          <p:nvPr/>
        </p:nvSpPr>
        <p:spPr>
          <a:xfrm>
            <a:off x="2590920" y="5715000"/>
            <a:ext cx="3733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5"/>
          <p:cNvSpPr/>
          <p:nvPr/>
        </p:nvSpPr>
        <p:spPr>
          <a:xfrm>
            <a:off x="2590200" y="1295280"/>
            <a:ext cx="3733560" cy="441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2598840" y="1828800"/>
            <a:ext cx="463320" cy="3189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2590920" y="1523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4495680" y="26668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h </a:t>
            </a:r>
            <a:r>
              <a:rPr b="0" lang="en-US" sz="2800" spc="-1" strike="noStrike">
                <a:solidFill>
                  <a:srgbClr val="7f7f7f"/>
                </a:solidFill>
                <a:latin typeface="Lucida Sans"/>
                <a:ea typeface="Cambria Math"/>
              </a:rPr>
              <a:t>(hypoten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609480" y="25909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Lucida Sans"/>
                <a:ea typeface="Cambria Math"/>
              </a:rPr>
              <a:t>(adja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352680" y="5715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Cambria Math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Lucida Sans"/>
                <a:ea typeface="Cambria Math"/>
              </a:rPr>
              <a:t>(oppo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6"/>
          <p:cNvSpPr/>
          <p:nvPr/>
        </p:nvSpPr>
        <p:spPr>
          <a:xfrm>
            <a:off x="2590920" y="5105520"/>
            <a:ext cx="609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7"/>
          <p:cNvSpPr/>
          <p:nvPr/>
        </p:nvSpPr>
        <p:spPr>
          <a:xfrm flipH="1">
            <a:off x="3198960" y="5105520"/>
            <a:ext cx="144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n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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= o/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 = h*sin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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= a/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= h*cos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angent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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= o/a = sin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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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xu</cp:lastModifiedBy>
  <dcterms:modified xsi:type="dcterms:W3CDTF">2012-02-08T00:08:15Z</dcterms:modified>
  <cp:revision>229</cp:revision>
  <dc:subject/>
  <dc:title>PowerPoint Presentation</dc:title>
</cp:coreProperties>
</file>