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E93-E180-4226-A84D-6C318F95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8AA-9B82-4C1C-910B-853A2D6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DF9-32C9-4091-A7C9-3FEC43D2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AB2-B1E5-4EBD-B630-9D5D2187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93D-EE49-411D-8E00-3815B13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393-900F-4846-A4B3-94DF2B46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6BF-E298-489C-B087-CCF74B2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B87-45D9-4AF4-B8EE-506BE2B3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E4C-D1ED-437E-ACA8-F7183A5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678-5058-422C-82A5-50E492F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8F4-2F76-454A-A4D3-77008ED9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199-9B53-4CE9-8B67-53C5A10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DE5E-16BF-4E2D-9597-F7FD96519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fie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ray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al kind of variable that holds not one, by many data items of a given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ed like variables, only type is followed by a pair of brack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[] x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initialized using a special syntax involv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eyword, the type, an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brack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iameters = new int[10]; // Ten di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ray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data items are accessed with an index and square brack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s[0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s[1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exes start at 0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ngth of an array can be determined using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per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s.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ength of an array is one greater than the last valid ind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s can be passed to, and returned from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52280" y="762120"/>
            <a:ext cx="8839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diameters = new int[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500, 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ckground(2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=0; i&lt;diameters.length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ameters[i] =  int(random(0, width/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l(255, 0,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=0; i&lt;diameters.length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lipse(random(width), random(height), diameters[i], diameters[i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 Ball clas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523880"/>
            <a:ext cx="5562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[] balls = new Ball[2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(500, 5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(255, 0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ooth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lipseMode(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reate all new Ball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balls.length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s[i] = new Ba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25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balls.length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s[i].updat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ls[i].draw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17760" y="99072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in a manner very similar to a primitive data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6"/>
          <p:cNvCxnSpPr/>
          <p:nvPr/>
        </p:nvCxnSpPr>
        <p:spPr>
          <a:xfrm flipH="1" flipV="1">
            <a:off x="3733200" y="1904760"/>
            <a:ext cx="1905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xtBox 7"/>
          <p:cNvSpPr/>
          <p:nvPr/>
        </p:nvSpPr>
        <p:spPr>
          <a:xfrm>
            <a:off x="5731200" y="16765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n array of B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8"/>
          <p:cNvCxnSpPr/>
          <p:nvPr/>
        </p:nvCxnSpPr>
        <p:spPr>
          <a:xfrm flipH="1" flipV="1">
            <a:off x="3765240" y="4048920"/>
            <a:ext cx="1905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9"/>
          <p:cNvSpPr/>
          <p:nvPr/>
        </p:nvSpPr>
        <p:spPr>
          <a:xfrm>
            <a:off x="5746680" y="3733920"/>
            <a:ext cx="33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bjects are created with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0"/>
          <p:cNvCxnSpPr/>
          <p:nvPr/>
        </p:nvCxnSpPr>
        <p:spPr>
          <a:xfrm flipH="1" flipV="1">
            <a:off x="3765240" y="5841720"/>
            <a:ext cx="1905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1"/>
          <p:cNvSpPr/>
          <p:nvPr/>
        </p:nvSpPr>
        <p:spPr>
          <a:xfrm>
            <a:off x="5746680" y="5526000"/>
            <a:ext cx="33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objects stored in the array are accessed using dot-n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t-in Array Func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end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i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expanded by one and add item to 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newSiz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with size increased to newS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en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shortened by 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at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1, array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that is the concatenation of array1 and array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t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offset [, length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subset of array starting at offset and proceeding for length (or en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lice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, value|array2, ind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with value or array2 inserted at inde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rt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sorted numerically or alphabetical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erse(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s a new array with all elements reversed in or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ame that measures your balloon-popping sk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t should wor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game runs, randomly placed balloons inf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player pops (clicks on) a balloon, 1 point is 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 are added up throughout the game d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click is over top multiple balloons, all balloons pop and multiple points are 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me runs for 30 seconds, and then 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1:48:34Z</dcterms:created>
  <dc:creator>Admin</dc:creator>
  <dc:description/>
  <dc:language>en-US</dc:language>
  <cp:lastModifiedBy>dxu</cp:lastModifiedBy>
  <dcterms:modified xsi:type="dcterms:W3CDTF">2012-02-14T15:36:03Z</dcterms:modified>
  <cp:revision>55</cp:revision>
  <dc:subject/>
  <dc:title>PowerPoint Presentation</dc:title>
</cp:coreProperties>
</file>