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060A-E823-46E4-8E59-D8D6F2930E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icult to keep track of the contro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icult to keep track of the contro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 break withi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ted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nd is -1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forgot: i = i + 1;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kip the subsequent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with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nd is -1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forgot: i = i + 1;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S246 Lec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ting: while-while, while-for, for-while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949480" y="6068880"/>
            <a:ext cx="395136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E07-6F39-4B31-9EAB-2D37331C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03C-1A4C-4027-B9E3-CC8AA2B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254-752A-4F3A-BDB5-76CF06F2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22C-AD0E-46E1-B8C1-7E7DAA11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5A4-4A12-4705-8EF6-BF6299C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CB6-FB07-4ED3-A4AD-FB995A06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152-56CA-493A-9538-D81712C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F1F-09DD-4CC5-A2E6-4A15B4AC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698-2D77-4AA3-9B24-83A52B6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497-0D93-4A7C-A996-3485A38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F1F-3A00-4F41-A38D-94BD97F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BB4-FE9D-4520-8F79-C5BC5C1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4BE-1645-487D-8246-E8483AAEC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058-F7C3-4E5B-84B0-B031ED43D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Similar C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38080" y="1219320"/>
            <a:ext cx="6602400" cy="5432040"/>
          </a:xfrm>
          <a:prstGeom prst="rect">
            <a:avLst/>
          </a:prstGeom>
          <a:noFill/>
          <a:ln cap="rnd" w="9360">
            <a:solidFill>
              <a:srgbClr val="4f81b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x, y, w, 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totalShapeCount = 1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tup 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other setup cod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oke(255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i&lt;totalShapeCou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(random(255), random(255), random(255)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x = random(wid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y = random(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w = random(5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h = random(5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ect(x, y, w, 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+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oke(0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totalShapeCount; i+=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(random(255)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x = random(wid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y = random(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w = random(5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h = random(5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</a:rPr>
              <a:t>ellipse(x, y, w, 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809880" y="31240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116600" y="3200400"/>
            <a:ext cx="9579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914640" y="52578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221360" y="5334120"/>
            <a:ext cx="9579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03E-B986-4383-A1F5-1048B8ABA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Similar Co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38080" y="914400"/>
            <a:ext cx="6602400" cy="6015240"/>
          </a:xfrm>
          <a:prstGeom prst="rect">
            <a:avLst/>
          </a:prstGeom>
          <a:noFill/>
          <a:ln cap="rnd" w="9360">
            <a:solidFill>
              <a:srgbClr val="4f81b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x, y, w, 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totalShapeCount = 1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tup 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other setup cod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oke(255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i&lt;totalShapeCou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66ff"/>
                </a:solidFill>
                <a:latin typeface="Courier New"/>
              </a:rPr>
              <a:t>drawRandomShap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+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oke(0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totalShapeCount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66ff"/>
                </a:solidFill>
                <a:latin typeface="Courier New"/>
              </a:rPr>
              <a:t>drawRandomShape(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drawRandomShape(int choic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random(width); y = random(he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 = random(5, 100); h = random(5, 1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hoice == 2) {  //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(random(255), 5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lipse(x, y, w, 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(random(255), random(255), random(255), 50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ct(x, y, w, 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Lo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or ( </a:t>
            </a:r>
            <a:r>
              <a:rPr b="0" i="1" lang="en-US" sz="32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ini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ndit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; </a:t>
            </a:r>
            <a:r>
              <a:rPr b="0" i="1" lang="en-US" sz="3200" spc="-1" strike="noStrike">
                <a:solidFill>
                  <a:srgbClr val="4f81bd"/>
                </a:solidFill>
                <a:latin typeface="Calibri"/>
                <a:ea typeface="ＭＳ Ｐゴシック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section can be bla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quence: </a:t>
            </a:r>
            <a:r>
              <a:rPr b="0" lang="en-US" sz="2400" spc="-1" strike="noStrike">
                <a:solidFill>
                  <a:srgbClr val="c0504d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2400" spc="-1" strike="noStrike">
                <a:solidFill>
                  <a:srgbClr val="4f81bd"/>
                </a:solidFill>
                <a:latin typeface="Wingdings"/>
                <a:ea typeface="Wingdings"/>
              </a:rPr>
              <a:t>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...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2400" spc="-1" strike="noStrike">
                <a:solidFill>
                  <a:srgbClr val="4f81bd"/>
                </a:solidFill>
                <a:latin typeface="Wingdings"/>
                <a:ea typeface="Wingdings"/>
              </a:rPr>
              <a:t>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condition 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485040" y="3809880"/>
            <a:ext cx="1520280" cy="459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3428640" y="2286000"/>
            <a:ext cx="304920" cy="4572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 flipH="1">
            <a:off x="5181480" y="228600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 flipV="1">
            <a:off x="6781320" y="3123720"/>
            <a:ext cx="228600" cy="68580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199480" y="1752480"/>
            <a:ext cx="2599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32360" y="1752480"/>
            <a:ext cx="15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70760" y="2286000"/>
            <a:ext cx="367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Wingdings"/>
                <a:ea typeface="Wingdings"/>
              </a:rPr>
              <a:t>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048840" y="2286000"/>
            <a:ext cx="36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Wingdings"/>
                <a:ea typeface="Wingdings"/>
              </a:rPr>
              <a:t>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193280" y="2286000"/>
            <a:ext cx="36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49600" y="3200400"/>
            <a:ext cx="371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F4CF-5B07-485A-91CA-9DA56B600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Statem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t from a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used with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2801520" y="2819520"/>
            <a:ext cx="2678040" cy="2451600"/>
            <a:chOff x="2801520" y="2819520"/>
            <a:chExt cx="2678040" cy="2451600"/>
          </a:xfrm>
        </p:grpSpPr>
        <p:sp>
          <p:nvSpPr>
            <p:cNvPr id="66" name="Text Box 5"/>
            <p:cNvSpPr/>
            <p:nvPr/>
          </p:nvSpPr>
          <p:spPr>
            <a:xfrm>
              <a:off x="2817000" y="2819520"/>
              <a:ext cx="2594880" cy="1909440"/>
            </a:xfrm>
            <a:prstGeom prst="rect">
              <a:avLst/>
            </a:prstGeom>
            <a:noFill/>
            <a:ln cap="rnd" w="9360">
              <a:solidFill>
                <a:srgbClr val="4f81b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hile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 {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break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2801520" y="3822480"/>
              <a:ext cx="2678040" cy="1448640"/>
            </a:xfrm>
            <a:prstGeom prst="pie">
              <a:avLst/>
            </a:prstGeom>
            <a:noFill/>
            <a:ln w="936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544-232D-49D3-85C1-416B01851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8600" y="2209680"/>
            <a:ext cx="5941440" cy="2316240"/>
          </a:xfrm>
          <a:prstGeom prst="rect">
            <a:avLst/>
          </a:prstGeom>
          <a:noFill/>
          <a:ln cap="rnd" w="9360">
            <a:solidFill>
              <a:srgbClr val="4f81b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(int i=1; i&lt;=100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 (i &gt; 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ln(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112-6F26-4937-95F3-8370BC109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Le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Statemen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to the beginning of a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e., the condition will be che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used with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2133720" y="2895480"/>
            <a:ext cx="4266720" cy="2493720"/>
            <a:chOff x="2133720" y="2895480"/>
            <a:chExt cx="4266720" cy="2493720"/>
          </a:xfrm>
        </p:grpSpPr>
        <p:sp>
          <p:nvSpPr>
            <p:cNvPr id="76" name="Text Box 5"/>
            <p:cNvSpPr/>
            <p:nvPr/>
          </p:nvSpPr>
          <p:spPr>
            <a:xfrm>
              <a:off x="3072240" y="3479760"/>
              <a:ext cx="2594880" cy="1909440"/>
            </a:xfrm>
            <a:prstGeom prst="rect">
              <a:avLst/>
            </a:prstGeom>
            <a:noFill/>
            <a:ln cap="rnd" w="9360">
              <a:solidFill>
                <a:srgbClr val="4f81b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hile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 {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2133720" y="2895480"/>
              <a:ext cx="4266720" cy="1558440"/>
            </a:xfrm>
            <a:prstGeom prst="pie">
              <a:avLst/>
            </a:prstGeom>
            <a:noFill/>
            <a:ln w="936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6C0-69D4-4D26-87F1-9693A5D45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8600" y="2209680"/>
            <a:ext cx="5941440" cy="2316240"/>
          </a:xfrm>
          <a:prstGeom prst="rect">
            <a:avLst/>
          </a:prstGeom>
          <a:noFill/>
          <a:ln cap="rnd" w="9360">
            <a:solidFill>
              <a:srgbClr val="4f81b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(int i=1; i&lt;=100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if (i &gt;= 20 &amp;&amp; i &lt;=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ontin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ln(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57200" y="38088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ousePresse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10; i++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7200" y="350532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ousePressed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 = 0; i &lt; 10; i++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i % 2 == 1 ) contin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04920" y="3352680"/>
            <a:ext cx="69339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B3F-41EE-4B5B-B127-29827ACDC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t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905120"/>
            <a:ext cx="7543800" cy="3596040"/>
          </a:xfrm>
          <a:prstGeom prst="rect">
            <a:avLst/>
          </a:prstGeom>
          <a:noFill/>
          <a:ln cap="rnd" w="9360">
            <a:solidFill>
              <a:srgbClr val="4f81b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i, j, end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or (i = 1; i &lt;= end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ourier New"/>
              </a:rPr>
              <a:t>for (j = 1; j &lt;= i; j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("*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c0504d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2-02T21:06:12Z</dcterms:modified>
  <cp:revision>134</cp:revision>
  <dc:subject/>
  <dc:title>PowerPoint Presentation</dc:title>
</cp:coreProperties>
</file>