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6DC-CB53-4253-AA3C-047E76F4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094-E3EE-4DFE-8A6B-304D37DE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D0E-1EB1-4786-9978-BD895AFE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B16-74AE-4910-B6E2-E0F4798E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523-9661-4327-8020-9386363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9A4-C2BA-4D6F-8BD8-E93E4084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147-24D9-4494-8312-717E2B1B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2C5-B91D-40D5-B3EE-6F443E30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81B-56DD-4797-8FAC-7A50C8DB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5A0-4B2E-4FA4-83FC-8078C4F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2ED-534C-40E5-B36E-90BDEEBB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A70-4289-4D75-9401-1C3C413B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8DCB-FB54-475F-904F-45C070844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r Toolki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ph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es, shapes, images, text, color,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of Various Typ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bers (with and without decimal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oleans (true, fal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or (two color model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s and Str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ld/name any type of data val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hematic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+, *, ++, %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&lt;, &gt;=, !=, ==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&amp;&amp;, ||, 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r Toolkit (Continued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hematical, Graphical, Utility,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our own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res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bination of data, variables, operators, fun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dition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-stat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er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le-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-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r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ctions that manipulate arr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b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-Down Desig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first blush, solving a hard problem can seem da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clone of Adobe Photo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new web brow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technique for solving complex problems i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p-Down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k.a. "Step-wise Refinement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sequence of steps to solve a given problem at the highest, most abstract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sively, list a sequence of sub-steps to solve each higher-level st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eat until the sub-problem is "easy enough" to solve di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6550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csee.umbc.edu/courses/undergraduate/CMSC104/fall06/burt/lectur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-Down Design - Advantag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s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code is naturally organized, and easy to underst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s the "spaghetti code"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fies the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rger complex problem reduces to several smaller, more simple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s Re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al sub-problem solutions may be reusable by multiple parts of you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sub-problems have existing solutions implem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Shared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people can work on different parts of the problem at the sam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-Down Design -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Di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k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t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-Down Design -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Di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k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il Noo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r-fry Veg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x toge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t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p-Down Design -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Di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k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il Noo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il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ur in dry nood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 co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in nood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r-fry Veg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t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ame that measures your balloon-popping sk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t should wor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game runs, randomly placed balloons inf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player pops (clicks on) a balloon, 1 point is 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s are added up throughout the game d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e click is over top multiple balloons, all balloons pop and multiple points are 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me runs for 30 seconds, and then 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01:48:34Z</dcterms:created>
  <dc:creator>Admin</dc:creator>
  <dc:description/>
  <dc:language>en-US</dc:language>
  <cp:lastModifiedBy>dxu</cp:lastModifiedBy>
  <dcterms:modified xsi:type="dcterms:W3CDTF">2012-02-22T22:26:12Z</dcterms:modified>
  <cp:revision>84</cp:revision>
  <dc:subject/>
  <dc:title>PowerPoint Presentation</dc:title>
</cp:coreProperties>
</file>