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694-3F50-4AFA-8F25-FE9370EB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E36-5124-4A54-A437-66A564CD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E94-6D43-4F5C-ABD7-E5230A9A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A04-B498-4154-A8BE-CD1989BC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F43-FF2C-422A-983C-4025769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0DA-CFB5-4E25-A7B5-B87887E6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DA4-9562-4B9B-90C2-9FA7B229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8E9-602C-4B7A-B8D7-C949797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D33-08E1-4C6E-BFFE-2178C1C7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062-1038-4487-8A17-222543B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2C3-8ABD-4126-8A8E-5E695F1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AEB-1E97-4577-934F-8056FDC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3FB6-D486-4742-ABDF-74C1985EF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useX, mou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up() &amp; draw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meRate(), loop(), noLoop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use and Keyboard inte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s, curves, bézier curves, custom sh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e-Saturation-Brightness vs. Red-Green-Blue c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Sket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Processing web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Type Convers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of some types can be converted to other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conversion function names are the types to which data will be conve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binary(…), boolean(…), byte(…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har(…), float(…), str(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float f = 10.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//i = f;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// Throws a runtime 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i = int(f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println( char(65) );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nn-NO" sz="1800" spc="-1" strike="noStrike">
                <a:solidFill>
                  <a:srgbClr val="000000"/>
                </a:solidFill>
                <a:latin typeface="Courier New"/>
              </a:rPr>
              <a:t>// Prints the character 'A'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xing types and Integer Divis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3*1.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val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yp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x/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tic branch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What does this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mouseX &gt; 50 &amp;&amp; mouseY &gt; 50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lipse( mouseX, mouseY, 10, 10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itionals: if-statem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tional Express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reater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less than or 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greater than or equal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not e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tional Expressions: Examp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&gt;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&g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 == 'a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 != 'a'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Bryn Mawr" != "bryn mawr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ical Expression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conjunction (a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expressions must be true for conjunction to be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disjunction (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expression must be true for disjunction to be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negation (no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alse,  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ical Expression Examp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 &gt; 1) &amp;&amp; (3 &gt; 4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"blah" == "blah") &amp;&amp; (1 + 2 == 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(1 &lt; -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(10 &lt; 20) ||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(10 &gt; 20) &amp;&amp; (10 &lt; 2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rue || false) &amp;&amp;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rue &amp;&amp; false) || tr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) { …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itionals: if-else-statem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tements executed when boolean_expression is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atements executed when boolean_expression is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What does this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mouseY &lt; 50 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("the sky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("the ground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itionals: if-else-if-statem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85800" y="16765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oolean_expression_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oolean_expression_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oolean_expression_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85800" y="76320"/>
            <a:ext cx="609588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Mode(CEN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ouseX &lt; 25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oke(255, 0,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ouseY &lt; 25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l(0, 255,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l(0, 0, 25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oke(0, 0, 25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ouseY &lt; 25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l(255, 0, 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l(25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lipse(mouseX, mouseY, 50, 3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939920" y="4176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this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dds and End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box installation is a two-ste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 up for an account with drop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all the dropbox application on your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you have installed drop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ation to join a shared folder named with your email use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where all the submissions go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programs carry the extens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programs must be in a folder with the same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.p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inside a folder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85800" y="76212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 500, 500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mouseX &gt; 10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ckground( 255, 0, 0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 mouseX &gt; 20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ckground( 0, 0, 255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6640" y="762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990720" y="685800"/>
            <a:ext cx="4572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 500, 500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mouseX &gt; 20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ckground( 255, 0, 0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mouseX &gt; 10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ckground( 0, 0, 255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6415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quations of Motion (Simplified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 = displacement (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= accel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acceleration 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e small time intervals – i.e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itionals: switch-statemen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38080" y="2286000"/>
            <a:ext cx="71629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(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label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        // label1 equals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label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        // label2 equals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ault:             // Nothing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 like a if-else stat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ient for large numbers of value te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990720" y="762120"/>
            <a:ext cx="63244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draw()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keyPresse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itch(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'l'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'L'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ln("Turning lef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'r'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se 'R'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ln("Turning righ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36640" y="762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04920" y="609480"/>
            <a:ext cx="4800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sitionX = 2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sitionY = 2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elta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delta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ze(500, 5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mooth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ckground(25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itionX = positionX + delt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itionY = positionY + delt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positionX &l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ition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positionX &gt; wid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itionX = 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positionY &l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ition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positionY &gt; he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itionY = he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lipse(positionX, positionY, 50, 5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334120" y="609480"/>
            <a:ext cx="35812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keyPresse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keyCod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X = -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X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Y = -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4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Y 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ta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4952880" y="380880"/>
            <a:ext cx="0" cy="5943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( 10, 10, 50, 80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m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rens 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mic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urly braces {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* and 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12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Image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ads an image from a file in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lder in sketch fold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t be assigned to a variable of type PIm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(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mg, X, Y, [X2, Y2]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ws the imag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m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the canvas at X,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onally fits image into box X,Y and X2,Y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ode(CORNER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X2 and Y2 define width and heig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ode(CORNER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ourier New"/>
              </a:rPr>
              <a:t>X2 and Y2 define opposite corn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age Examp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505320"/>
            <a:ext cx="6858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mage im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up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(500, 4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g = loadImage("natura-morta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ge(img, 50, 4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4"/>
          <p:cNvGrpSpPr/>
          <p:nvPr/>
        </p:nvGrpSpPr>
        <p:grpSpPr>
          <a:xfrm>
            <a:off x="914400" y="1295280"/>
            <a:ext cx="3458880" cy="1191240"/>
            <a:chOff x="914400" y="1295280"/>
            <a:chExt cx="3458880" cy="1191240"/>
          </a:xfrm>
        </p:grpSpPr>
        <p:sp>
          <p:nvSpPr>
            <p:cNvPr id="52" name="Text Box 5"/>
            <p:cNvSpPr/>
            <p:nvPr/>
          </p:nvSpPr>
          <p:spPr>
            <a:xfrm>
              <a:off x="1220760" y="1295280"/>
              <a:ext cx="315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Example.p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-morta.j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folder"/>
            <p:cNvPicPr/>
            <p:nvPr/>
          </p:nvPicPr>
          <p:blipFill>
            <a:blip r:embed="rId1"/>
            <a:stretch/>
          </p:blipFill>
          <p:spPr>
            <a:xfrm>
              <a:off x="914400" y="1295280"/>
              <a:ext cx="30168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folder"/>
            <p:cNvPicPr/>
            <p:nvPr/>
          </p:nvPicPr>
          <p:blipFill>
            <a:blip r:embed="rId2"/>
            <a:stretch/>
          </p:blipFill>
          <p:spPr>
            <a:xfrm>
              <a:off x="1752480" y="1904760"/>
              <a:ext cx="301680" cy="3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reeform 11"/>
            <p:cNvSpPr/>
            <p:nvPr/>
          </p:nvSpPr>
          <p:spPr>
            <a:xfrm>
              <a:off x="1523880" y="167616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1523880" y="190476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2361960" y="22096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0"/>
                  </a:moveTo>
                  <a:lnTo>
                    <a:pt x="0" y="96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data can be as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nam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ecla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specif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 must begin with a letter,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an container letters, digits,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bReady = tr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1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fSize = 10.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_red = color(255,0,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123 =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mage img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Us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value throughout your program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llow it to be ch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mporary storage for a intermediate computed res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arameterize – instead of hardcoding coordin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variables (preset variab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,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een.width, screen.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X, mou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mouseX, pmou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itive Data Typ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yp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ng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faul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 true, false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 0..255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 -2,147,483,64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2,147,483,647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 -9,223,372,036,854,775,80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9,223,372,036,854,775,807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 -3.40282347E+3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 3.40282347E+38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ch larger/small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 #00000000 .. #FFFFFFFF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single charac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'a', 'b'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'\u0000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her "things" …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yp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ng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faul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ries of chars in quote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Fo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nt for rendering 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000" y="419112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essage = "Hello World!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04:28Z</dcterms:created>
  <dc:creator>Admin</dc:creator>
  <dc:description/>
  <dc:language>en-US</dc:language>
  <cp:lastModifiedBy>Dianna Xu</cp:lastModifiedBy>
  <dcterms:modified xsi:type="dcterms:W3CDTF">2012-01-24T01:44:04Z</dcterms:modified>
  <cp:revision>166</cp:revision>
  <dc:subject/>
  <dc:title>Interaction</dc:title>
</cp:coreProperties>
</file>