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02D-5849-4259-8BBC-3A4D2673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DC9-AE56-4D46-8708-58849E07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C64-A75F-4F26-8946-88B797A8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1AEB-F4EB-4B80-A8ED-54CF6143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10C-C854-4270-9D46-3A5BCC5D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FC5D-FA51-465F-AF72-A94C14F5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D11A-2285-41E4-8BB7-A04BEE01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CF00-5EE4-4B5F-A6D7-AEF420E6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226-40B5-4ACF-A69D-9933701B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EEDA-84ED-43E4-AB92-21F185D7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94B-55B4-4ECC-9BC4-0C45CB4D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4A8-4735-4DAC-8E41-770C5793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AAFB-E6DC-44C3-92AF-27B1BAE80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folder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wing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er di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itionals: if - else if - e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ion sim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57200" y="944640"/>
            <a:ext cx="5943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10; i++ 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( i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57200" y="3933720"/>
            <a:ext cx="6095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10; i++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i % 2 == 1 ) contin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( i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04920" y="3048120"/>
            <a:ext cx="693396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0" y="358128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tup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ze(500, 5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mooth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float diameter = 500; diameter &gt; 1; diameter -= 10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lipse( 250, 250, diameter, diamet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draw()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228600"/>
            <a:ext cx="6553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tup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ze(500, 5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mooth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diameter = 5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 diameter &gt; 1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lipse( 250, 250, diameter, diamet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ameter = diameter –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draw()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4"/>
          <p:cNvSpPr/>
          <p:nvPr/>
        </p:nvSpPr>
        <p:spPr>
          <a:xfrm>
            <a:off x="380880" y="1981080"/>
            <a:ext cx="3124440" cy="304920"/>
          </a:xfrm>
          <a:prstGeom prst="roundRect">
            <a:avLst>
              <a:gd name="adj" fmla="val 16667"/>
            </a:avLst>
          </a:prstGeom>
          <a:solidFill>
            <a:srgbClr val="00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/>
          <p:cNvSpPr/>
          <p:nvPr/>
        </p:nvSpPr>
        <p:spPr>
          <a:xfrm>
            <a:off x="1219320" y="1523880"/>
            <a:ext cx="1600200" cy="304920"/>
          </a:xfrm>
          <a:prstGeom prst="roundRect">
            <a:avLst>
              <a:gd name="adj" fmla="val 16667"/>
            </a:avLst>
          </a:prstGeom>
          <a:solidFill>
            <a:srgbClr val="00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228600" y="1219320"/>
            <a:ext cx="2743200" cy="30456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762120" y="4572000"/>
            <a:ext cx="2743200" cy="30492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3"/>
          <p:cNvSpPr/>
          <p:nvPr/>
        </p:nvSpPr>
        <p:spPr>
          <a:xfrm>
            <a:off x="3581280" y="4572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00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5334120" y="457200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00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ress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ion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ata valu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variab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lated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pera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unction ca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grouped by parenthe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ression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utomatically evalua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eplac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y the final evaluated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ressions can be assigned to variables using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ression is always on r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 name is always on le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ariable_na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on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62120" y="5562720"/>
            <a:ext cx="579096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me Built-in Mathematical Funct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240" y="990360"/>
            <a:ext cx="89154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in(x), cos(x), tan(x), asin(x),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bs(x), exp(x), pow(x, y), log(x), sqrt(x),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(x1, x2), min(x1, x2), floor(x), ceil(x),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t(x1, y1, x2, y2)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-&gt; distance between two 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rm(value, low, high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-&gt; normalizes a value to [0-1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and many more, all of which can be included in an expres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aluating Express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+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w(sin(x),2) + pow(cos(x),2) == 1.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(1, 2, 3) &gt;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(2.9) == ceil(1.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tition of a program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erate when a block of code is to repeated multiple ti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hile-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or-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er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eration: while-loo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boolean_express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ontinu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break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ments are repeatedly executed while the boolean expression remains tru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break out of a while loop, cal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stop execution of statements and start again, cal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iterations can be written as while-loo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609480" y="250920"/>
            <a:ext cx="5867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tup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ze(500, 5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mooth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diameter = 500.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 diameter &gt; 1.0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lipse( 250, 250, diameter, diamet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ameter = diameter * 0.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draw()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022440" y="7621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this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609480" y="3587760"/>
            <a:ext cx="5867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tup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ze(500, 5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mooth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diameter = 500.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lipse( 250, 250, diameter, diamet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ameter = diameter * 0.9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diameter &lt;= 1.0 ) 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draw()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304920" y="3505320"/>
            <a:ext cx="693396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 aside … Operator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++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quivalent to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 += 2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quivalent 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 = i + 2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--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quivalent 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 = i – 1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 -= 3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quivalent 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 = i - 3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 *= 2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quivalent 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 = i * 2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 /= 4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quivalent 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 = i / 4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 % 3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mainder after i is divided by 3 (modul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eration: for-loop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ontinuation_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cre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ontinu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break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kind of iteration constru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lization, continuation test and increment commands are part of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break out of a while loop, cal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stop execution of statements and start again, cal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01:48:34Z</dcterms:created>
  <dc:creator>Admin</dc:creator>
  <dc:description/>
  <dc:language>en-US</dc:language>
  <cp:lastModifiedBy>Dianna Xu</cp:lastModifiedBy>
  <dcterms:modified xsi:type="dcterms:W3CDTF">2012-01-26T04:26:24Z</dcterms:modified>
  <cp:revision>82</cp:revision>
  <dc:subject/>
  <dc:title>PowerPoint Presentation</dc:title>
</cp:coreProperties>
</file>