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C14-CBCE-4A03-9FF5-53BB0A78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66F-2428-471A-B1E9-5A36BA11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8744-A93B-4909-9B23-2E74FA08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D0E9-438A-41C0-8C26-50DFA64B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69C-77CE-4E70-9F81-EDAF7A8A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687E-5CD8-432B-A73D-AE3FA6ED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35E-501F-4822-9509-8733F3F0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C0D-7901-4FFC-8A13-6285A355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F504-A36E-42FA-AE7F-77EECCB1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7BB-6825-4BF8-8500-1801EE44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3CD0-BAE5-491A-A3F9-4E09F140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9A19-F4CD-4CD3-AFC0-BF265B93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D570-4FAB-4303-99B5-53C20D83F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ressions and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e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le-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-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nction Exampl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1276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up() { … 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draw() { … 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line( float x1, float y1, float x2, float y2) { … 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other graphic fun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float( … 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other type-conversion fun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ctions allow the programmer to break down larger programs into smaller p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motes organization and manageabi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ables the reuse of code blocks from arbitrary locations in a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nction Paramete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520" y="9907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Parameters (arguments) can be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passed i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to function and used in b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Parameters are a comma-delimited set of variable declar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Parameters act as input to a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Passing parameters provides a mechanism to execute a function with many different sets of 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an call a function many times and get different results by changing its paramete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happens when we call a function?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ecution of the main (calling) program is suspen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rgument expressions are evaluat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sulting values are copied into the corresponding paramet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atements in the function's body are executed in ord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ecution of the main program is resumed when a function exits (finish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e Exampl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520" y="9907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304920" y="1371600"/>
            <a:ext cx="46479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/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 This function squares a num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 Inputs: a value to be squa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 Outputs: returns the square of the num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                 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************************************/ double square (double n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return n*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4495680" y="1371600"/>
            <a:ext cx="46483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/**************************************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* Function: FindMinimum 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* Finds the minimum of two integer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* Inputs: integers n1 and n2 to be compa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* Outputs: returns the smaller of n1 and n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*************************************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</a:t>
            </a:r>
            <a:r>
              <a:rPr b="0" lang="da-DK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da-DK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dMinimum (int n1, int n2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da-DK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 min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da-DK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(n1&lt;n2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da-DK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n = n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da-DK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}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else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da-DK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n = n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da-DK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da-DK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turn min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nctions that return valu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520" y="9907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The return value of a function is the output of a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A function evaluates to its return val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Function must return a value whose type matches the function decla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_type function_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gument_decl_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men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ariable Scop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rt of the program from which a variable can be acces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l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s declared in a block are only accessible within the blo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s declared in an outer block are accessible from an inner blo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s declared outside of any function are considered global (available to all function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ariable Lifetim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cannot be referenced before they are decla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can be declared i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lobal sc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ody of a function or constru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rguments of a function or constru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tatement block (for, while, if, …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 is created and initialized when a program enters the block in which it is decla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 is destroyed when a program exists the block in which it was decla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304920" y="87480"/>
            <a:ext cx="480060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v1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up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v2 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v3=3; v3 &lt;= 3; v3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v4 = 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("-------------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("v1=" + str(v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("v2=" + str(v2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("v3=" + str(v3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("v4=" + str(v4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println("v5=" + str(v5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v3 = 6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("v3=" + str(v3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Function(v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Function(int v5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("-------------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("v1=" + str(v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println("v2=" + str(v2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println("v3=" + str(v3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println("v4=" + str(v4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("v5=" + str(v5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draw() {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474480"/>
            <a:ext cx="4495680" cy="59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print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happens if the second v3 declaration is remov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would happen if the v5 print statement is execut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would happen if commented statements in aFunction were call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ding styl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h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xt(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ings can be drawn on a sketch using the text() f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set text position, font, size, alignment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nt files are loaded from the data fol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et attrib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Size(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InPixel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Align(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LEFT | CENTER | RIGHT}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,{TOP, BOTTOM, CENTER, BASELINE}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(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Render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(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, X, 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(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, X, Y, width, heigh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609480" y="228600"/>
            <a:ext cx="579132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up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(500, 5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oLoo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draw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bounding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oke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(25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t(50, 50, 400, 4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ex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(0);    // black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("Default", 50, 50, 400, 4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Align(CENT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("CENTER", 50, 50, 400, 4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Align(RIGH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("RIGHT", 50, 50, 400, 4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Align(CENTER, CENT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("CENTER-CENTER", 50, 50, 400, 4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Align(RIGHT, BOTTO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("RIGHT-BOTTOM", 50, 50, 400, 4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Align(LEFT, BOTTO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("LEFT-BOTTOM", 50, 50, 400, 4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tition of a program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erate when a block of code is to repeated multiple ti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le-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-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er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eration: while-loo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boolean_express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ontinu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break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ments are repeatedly executed while the boolean expression remains tr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break out of a while loop, cal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continue with next iteration, cal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iterations can be written as while-loo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eration: for-loo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ontinuation_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ontinue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ontinues with next it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break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Breaks out of lo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kind of iteration constru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lization, continuation test and increment commands are part of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break out of a loop, cal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continue with next iteration step, cal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for loops can be translated to equivalent while lo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380880"/>
            <a:ext cx="59436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ousePressed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10; i++ 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( i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draw()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57200" y="3809880"/>
            <a:ext cx="6095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mousePressed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10; i++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i % 2 == 1 ) contin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( i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draw()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304920" y="3505320"/>
            <a:ext cx="693396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nctions Informall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520" y="9907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A func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unction is like a subprogram, a small program inside of a progra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sic idea – we write a sequence of statements and then give that sequence a name. We can then execute this sequence at any time by referring to the n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Function definition: this is where you create a function and define exactly what it d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Function call: when a function is used in a program, we say the function i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call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A function can only be defined once, but can be called many ti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01:48:34Z</dcterms:created>
  <dc:creator>Admin</dc:creator>
  <dc:description/>
  <dc:language>en-US</dc:language>
  <cp:lastModifiedBy>dxu</cp:lastModifiedBy>
  <dcterms:modified xsi:type="dcterms:W3CDTF">2012-01-31T16:52:39Z</dcterms:modified>
  <cp:revision>76</cp:revision>
  <dc:subject/>
  <dc:title>PowerPoint Presentation</dc:title>
</cp:coreProperties>
</file>