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2E02-427D-4A11-83AB-89517964F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bezierEdito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 drawing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323-5BFE-4D12-A771-6F94969E6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BC4F-2DC5-43B0-9F0D-082C0BF9B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0D8E-D8D0-4C8B-BD7B-DA125ECEA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rg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BD31-5366-4DE4-ADB5-1DD0E6E5C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556D-D41E-4C1B-93F2-5DEF472E3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all Deepa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183A-A145-4C65-B369-BC547A2B4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925F-608E-4E02-B42C-CA91EC4C2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y previous example. In setup call noLoop, change frame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add call to background in dr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FF8F-7422-4E43-8BCE-BC29B9FDF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rcEdi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1A8-061F-414E-9E06-775E9DD6B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curveEdi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DC9-6FBA-452E-8AC5-5B5784FA4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E0F-4C34-4429-8BC1-1429C1D7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87B-2940-46E7-A935-53AB3B98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095-6B2F-4177-95DA-32CBBA31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FD4-8DF6-444A-B0FA-E8EFE1C0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4EE-16AE-4031-BDFE-D68D6F5E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417-9794-42C3-8101-9E44495C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46C-0C47-4073-A2BD-AE319FCC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BE1-B072-4076-8328-1F70ADE7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009-1CBB-4C0F-A38D-DE42FDBF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DA3-AA59-4333-8D0B-705210D5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027-7451-466F-ADC4-3AACDAC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B5F-D360-4BBA-8F1F-D41FF60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44C7-87CE-48C0-B5A8-01572D667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9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Compu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n be Programm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ive Comp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ing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9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itive Sh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Canv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pe Forma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o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60800" y="304920"/>
            <a:ext cx="14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679400" y="2057400"/>
            <a:ext cx="577224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68112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ve( x1, y1, x2, y2, x3, y3, x4, y4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9440" y="482760"/>
            <a:ext cx="24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line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ézier Cur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smooth curve defined by tw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chor point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 tw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ntro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2, y2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2, y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chor points of bézier cu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x1, cy1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x2, cy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trol points that define curv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31280" y="15192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zier( x1, y1, cx1, cy1, cx2, cy2, x2, y2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431280" y="15192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zier( x1, y1, cx1, cy1, cx2, cy2, x2, y2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685880" y="2209680"/>
            <a:ext cx="577224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468720" y="533520"/>
            <a:ext cx="24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ézier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Content Placeholder 2"/>
          <p:cNvSpPr/>
          <p:nvPr/>
        </p:nvSpPr>
        <p:spPr>
          <a:xfrm>
            <a:off x="228600" y="609480"/>
            <a:ext cx="8915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stom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sed of a series of vertexes (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exes may or may not be connected with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s may join at vertexes in a variety of m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s may be straight, curves, or bézier sp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pe may be closed or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4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stom Sha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Shape(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option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 x, y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veVertex( x, y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zierVertex(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x1, cy1, cx2, cy2, x, y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Shape(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CLOSE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52"/>
          <p:cNvSpPr/>
          <p:nvPr/>
        </p:nvSpPr>
        <p:spPr>
          <a:xfrm>
            <a:off x="4084560" y="546120"/>
            <a:ext cx="2210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3"/>
          <p:cNvSpPr/>
          <p:nvPr/>
        </p:nvSpPr>
        <p:spPr>
          <a:xfrm>
            <a:off x="4084560" y="5748480"/>
            <a:ext cx="2210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4"/>
          <p:cNvSpPr/>
          <p:nvPr/>
        </p:nvSpPr>
        <p:spPr>
          <a:xfrm>
            <a:off x="4084560" y="546120"/>
            <a:ext cx="0" cy="520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>
            <a:off x="6294600" y="546120"/>
            <a:ext cx="0" cy="520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1"/>
          <p:cNvGrpSpPr/>
          <p:nvPr/>
        </p:nvGrpSpPr>
        <p:grpSpPr>
          <a:xfrm>
            <a:off x="152280" y="165240"/>
            <a:ext cx="3017880" cy="1295280"/>
            <a:chOff x="152280" y="165240"/>
            <a:chExt cx="3017880" cy="1295280"/>
          </a:xfrm>
        </p:grpSpPr>
        <p:pic>
          <p:nvPicPr>
            <p:cNvPr id="78" name="Picture 44" descr="example pic"/>
            <p:cNvPicPr/>
            <p:nvPr/>
          </p:nvPicPr>
          <p:blipFill>
            <a:blip r:embed="rId1"/>
            <a:stretch/>
          </p:blipFill>
          <p:spPr>
            <a:xfrm>
              <a:off x="152280" y="31752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51"/>
            <p:cNvSpPr/>
            <p:nvPr/>
          </p:nvSpPr>
          <p:spPr>
            <a:xfrm>
              <a:off x="1143000" y="165240"/>
              <a:ext cx="20271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5"/>
          <p:cNvGrpSpPr/>
          <p:nvPr/>
        </p:nvGrpSpPr>
        <p:grpSpPr>
          <a:xfrm>
            <a:off x="2895480" y="88200"/>
            <a:ext cx="2819520" cy="1371600"/>
            <a:chOff x="2895480" y="88200"/>
            <a:chExt cx="2819520" cy="1371600"/>
          </a:xfrm>
        </p:grpSpPr>
        <p:sp>
          <p:nvSpPr>
            <p:cNvPr id="81" name="Rectangle 64"/>
            <p:cNvSpPr/>
            <p:nvPr/>
          </p:nvSpPr>
          <p:spPr>
            <a:xfrm>
              <a:off x="3886200" y="88200"/>
              <a:ext cx="1828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oFill(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68" descr=""/>
            <p:cNvPicPr/>
            <p:nvPr/>
          </p:nvPicPr>
          <p:blipFill>
            <a:blip r:embed="rId2"/>
            <a:stretch/>
          </p:blipFill>
          <p:spPr>
            <a:xfrm>
              <a:off x="2895480" y="31752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89"/>
          <p:cNvGrpSpPr/>
          <p:nvPr/>
        </p:nvGrpSpPr>
        <p:grpSpPr>
          <a:xfrm>
            <a:off x="152280" y="4723560"/>
            <a:ext cx="3047760" cy="1919160"/>
            <a:chOff x="152280" y="4723560"/>
            <a:chExt cx="3047760" cy="1919160"/>
          </a:xfrm>
        </p:grpSpPr>
        <p:sp>
          <p:nvSpPr>
            <p:cNvPr id="84" name="Rectangle 69"/>
            <p:cNvSpPr/>
            <p:nvPr/>
          </p:nvSpPr>
          <p:spPr>
            <a:xfrm>
              <a:off x="1142640" y="4723560"/>
              <a:ext cx="20574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UAD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6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6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72" descr=""/>
            <p:cNvPicPr/>
            <p:nvPr/>
          </p:nvPicPr>
          <p:blipFill>
            <a:blip r:embed="rId3"/>
            <a:stretch/>
          </p:blipFill>
          <p:spPr>
            <a:xfrm>
              <a:off x="152280" y="495288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92"/>
          <p:cNvGrpSpPr/>
          <p:nvPr/>
        </p:nvGrpSpPr>
        <p:grpSpPr>
          <a:xfrm>
            <a:off x="5715000" y="1600200"/>
            <a:ext cx="2971800" cy="1554120"/>
            <a:chOff x="5715000" y="1600200"/>
            <a:chExt cx="2971800" cy="1554120"/>
          </a:xfrm>
        </p:grpSpPr>
        <p:pic>
          <p:nvPicPr>
            <p:cNvPr id="87" name="Picture 71" descr="example pic"/>
            <p:cNvPicPr/>
            <p:nvPr/>
          </p:nvPicPr>
          <p:blipFill>
            <a:blip r:embed="rId4"/>
            <a:stretch/>
          </p:blipFill>
          <p:spPr>
            <a:xfrm>
              <a:off x="5715000" y="179100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73"/>
            <p:cNvSpPr/>
            <p:nvPr/>
          </p:nvSpPr>
          <p:spPr>
            <a:xfrm>
              <a:off x="6705720" y="1600200"/>
              <a:ext cx="1981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2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4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40, 4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60, 4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60, 6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20, 6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3"/>
          <p:cNvGrpSpPr/>
          <p:nvPr/>
        </p:nvGrpSpPr>
        <p:grpSpPr>
          <a:xfrm>
            <a:off x="2895480" y="4863240"/>
            <a:ext cx="3353040" cy="1919160"/>
            <a:chOff x="2895480" y="4863240"/>
            <a:chExt cx="3353040" cy="1919160"/>
          </a:xfrm>
        </p:grpSpPr>
        <p:pic>
          <p:nvPicPr>
            <p:cNvPr id="90" name="Picture 70" descr="example pic"/>
            <p:cNvPicPr/>
            <p:nvPr/>
          </p:nvPicPr>
          <p:blipFill>
            <a:blip r:embed="rId5"/>
            <a:stretch/>
          </p:blipFill>
          <p:spPr>
            <a:xfrm>
              <a:off x="2895480" y="514368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74"/>
            <p:cNvSpPr/>
            <p:nvPr/>
          </p:nvSpPr>
          <p:spPr>
            <a:xfrm>
              <a:off x="3854520" y="4863240"/>
              <a:ext cx="23940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UAD_STRIP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6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6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5715000" y="3199680"/>
            <a:ext cx="3580920" cy="1554120"/>
            <a:chOff x="5715000" y="3199680"/>
            <a:chExt cx="3580920" cy="1554120"/>
          </a:xfrm>
        </p:grpSpPr>
        <p:pic>
          <p:nvPicPr>
            <p:cNvPr id="93" name="Picture 67" descr="example pic"/>
            <p:cNvPicPr/>
            <p:nvPr/>
          </p:nvPicPr>
          <p:blipFill>
            <a:blip r:embed="rId6"/>
            <a:stretch/>
          </p:blipFill>
          <p:spPr>
            <a:xfrm>
              <a:off x="5715000" y="3381480"/>
              <a:ext cx="9522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75"/>
            <p:cNvSpPr/>
            <p:nvPr/>
          </p:nvSpPr>
          <p:spPr>
            <a:xfrm>
              <a:off x="6705360" y="3199680"/>
              <a:ext cx="2590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RIANGLE_FA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7.5, 5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7.5, 1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92, 5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7.5, 8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22, 5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7.5, 1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152280" y="2955240"/>
            <a:ext cx="3429000" cy="1554120"/>
            <a:chOff x="152280" y="2955240"/>
            <a:chExt cx="3429000" cy="1554120"/>
          </a:xfrm>
        </p:grpSpPr>
        <p:pic>
          <p:nvPicPr>
            <p:cNvPr id="96" name="Picture 65" descr="example pic"/>
            <p:cNvPicPr/>
            <p:nvPr/>
          </p:nvPicPr>
          <p:blipFill>
            <a:blip r:embed="rId7"/>
            <a:stretch/>
          </p:blipFill>
          <p:spPr>
            <a:xfrm>
              <a:off x="152280" y="306072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76"/>
            <p:cNvSpPr/>
            <p:nvPr/>
          </p:nvSpPr>
          <p:spPr>
            <a:xfrm>
              <a:off x="1143000" y="2955240"/>
              <a:ext cx="24382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RIANGLE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4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6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7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87"/>
          <p:cNvGrpSpPr/>
          <p:nvPr/>
        </p:nvGrpSpPr>
        <p:grpSpPr>
          <a:xfrm>
            <a:off x="2895480" y="3060000"/>
            <a:ext cx="3810240" cy="1736640"/>
            <a:chOff x="2895480" y="3060000"/>
            <a:chExt cx="3810240" cy="1736640"/>
          </a:xfrm>
        </p:grpSpPr>
        <p:pic>
          <p:nvPicPr>
            <p:cNvPr id="99" name="Picture 66" descr="example pic"/>
            <p:cNvPicPr/>
            <p:nvPr/>
          </p:nvPicPr>
          <p:blipFill>
            <a:blip r:embed="rId8"/>
            <a:stretch/>
          </p:blipFill>
          <p:spPr>
            <a:xfrm>
              <a:off x="2895480" y="319536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77"/>
            <p:cNvSpPr/>
            <p:nvPr/>
          </p:nvSpPr>
          <p:spPr>
            <a:xfrm>
              <a:off x="3886200" y="3060000"/>
              <a:ext cx="281952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RIANGLE_STRIP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4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5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6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7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9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84"/>
          <p:cNvGrpSpPr/>
          <p:nvPr/>
        </p:nvGrpSpPr>
        <p:grpSpPr>
          <a:xfrm>
            <a:off x="5715000" y="0"/>
            <a:ext cx="3048120" cy="1371600"/>
            <a:chOff x="5715000" y="0"/>
            <a:chExt cx="3048120" cy="1371600"/>
          </a:xfrm>
        </p:grpSpPr>
        <p:pic>
          <p:nvPicPr>
            <p:cNvPr id="102" name="Picture 48" descr="example pic"/>
            <p:cNvPicPr/>
            <p:nvPr/>
          </p:nvPicPr>
          <p:blipFill>
            <a:blip r:embed="rId9"/>
            <a:stretch/>
          </p:blipFill>
          <p:spPr>
            <a:xfrm>
              <a:off x="5715000" y="19044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78"/>
            <p:cNvSpPr/>
            <p:nvPr/>
          </p:nvSpPr>
          <p:spPr>
            <a:xfrm>
              <a:off x="6735960" y="0"/>
              <a:ext cx="2027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oFill(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2"/>
          <p:cNvGrpSpPr/>
          <p:nvPr/>
        </p:nvGrpSpPr>
        <p:grpSpPr>
          <a:xfrm>
            <a:off x="152280" y="1536840"/>
            <a:ext cx="2971800" cy="1239840"/>
            <a:chOff x="152280" y="1536840"/>
            <a:chExt cx="2971800" cy="1239840"/>
          </a:xfrm>
        </p:grpSpPr>
        <p:pic>
          <p:nvPicPr>
            <p:cNvPr id="105" name="Picture 46" descr="example pic"/>
            <p:cNvPicPr/>
            <p:nvPr/>
          </p:nvPicPr>
          <p:blipFill>
            <a:blip r:embed="rId10"/>
            <a:stretch/>
          </p:blipFill>
          <p:spPr>
            <a:xfrm>
              <a:off x="152280" y="167184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79"/>
            <p:cNvSpPr/>
            <p:nvPr/>
          </p:nvSpPr>
          <p:spPr>
            <a:xfrm>
              <a:off x="1143000" y="1536840"/>
              <a:ext cx="198108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OINT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83"/>
          <p:cNvGrpSpPr/>
          <p:nvPr/>
        </p:nvGrpSpPr>
        <p:grpSpPr>
          <a:xfrm>
            <a:off x="2895480" y="1641600"/>
            <a:ext cx="3048120" cy="1295280"/>
            <a:chOff x="2895480" y="1641600"/>
            <a:chExt cx="3048120" cy="1295280"/>
          </a:xfrm>
        </p:grpSpPr>
        <p:pic>
          <p:nvPicPr>
            <p:cNvPr id="108" name="Picture 47" descr="example pic"/>
            <p:cNvPicPr/>
            <p:nvPr/>
          </p:nvPicPr>
          <p:blipFill>
            <a:blip r:embed="rId11"/>
            <a:stretch/>
          </p:blipFill>
          <p:spPr>
            <a:xfrm>
              <a:off x="2895480" y="179388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80"/>
            <p:cNvSpPr/>
            <p:nvPr/>
          </p:nvSpPr>
          <p:spPr>
            <a:xfrm>
              <a:off x="3916440" y="1641600"/>
              <a:ext cx="20271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beginShape(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INE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20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85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vertex(30, 75)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endShape(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1160" y="808200"/>
            <a:ext cx="3429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keJoin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57200" y="179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3333600" y="179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286680" y="179064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04920" y="2895480"/>
            <a:ext cx="2895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Fi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oot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Weight(10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Joi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I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Shap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35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65, 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35, 8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Shap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18040" y="2895480"/>
            <a:ext cx="295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Fi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oot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Weight(10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Joi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V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Shap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35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65, 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35, 8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Shap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83360" y="2895480"/>
            <a:ext cx="28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Fi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oot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Weight(10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keJoi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Shap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35, 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65, 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ertex(35, 8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Shap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Col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Mode(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GB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or 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SB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RGB: (red, green, blu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HSB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h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ure color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satu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ntensity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bright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ightness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0" t="0" r="0" b="32074"/>
          <a:stretch/>
        </p:blipFill>
        <p:spPr>
          <a:xfrm>
            <a:off x="4572000" y="3838680"/>
            <a:ext cx="3429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rcRect l="0" t="0" r="10889" b="0"/>
          <a:stretch/>
        </p:blipFill>
        <p:spPr>
          <a:xfrm>
            <a:off x="3981600" y="1981080"/>
            <a:ext cx="514332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047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mal vs. Binary vs. Hexadec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43000" y="990720"/>
          <a:ext cx="6858000" cy="5676840"/>
        </p:xfrm>
        <a:graphic>
          <a:graphicData uri="http://schemas.openxmlformats.org/drawingml/2006/table">
            <a:tbl>
              <a:tblPr/>
              <a:tblGrid>
                <a:gridCol w="2209680"/>
                <a:gridCol w="2210040"/>
                <a:gridCol w="24382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0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0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1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1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1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e a random number in the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r 0)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t-in predefined variables that hold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mouse X and Y 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meth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(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meth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 something to the Processing conso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 Sketch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dyBug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deb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guin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ParkCharacter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orgioMoran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openprocessing.or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yn Mawr and SMU student ske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usePressed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when the mouse is pr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useReleased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when the mouse is 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useClicked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when the mouse is pressed and 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at the same mouse pos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useMoved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while the mouse is being mov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with the mouse button 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useDragged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while the mouse is being mo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with the mouse button pr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keyPressed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each time a key is pr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keyReleased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each time a key is 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keyTyped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when a key is pr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alled repeatedly if the key is held d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Code vs.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ilt-in variable that holds the character that was just typed at the key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uilt-in variable that hold the code for the keyboard key that was touc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28600" y="4495680"/>
            <a:ext cx="89154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uilt-in keyboard interaction functio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the integer that codes for the keyboar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the character ty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keyboard keys hav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hav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CII - American Standard Code for Information Inter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419040"/>
          <a:ext cx="8534520" cy="621828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770040"/>
                <a:gridCol w="771480"/>
                <a:gridCol w="771480"/>
                <a:gridCol w="770040"/>
                <a:gridCol w="774720"/>
                <a:gridCol w="771480"/>
                <a:gridCol w="773280"/>
                <a:gridCol w="769680"/>
                <a:gridCol w="84960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x001e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x001f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@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\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^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|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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ƒ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„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560" y="1036800"/>
            <a:ext cx="83818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alled once when program st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alled repeate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program runs *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560" y="457200"/>
            <a:ext cx="88390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ourier New"/>
              </a:rPr>
              <a:t>randomEllip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(300, 30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mooth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aw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(random(255), random(255), random(255)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lipse(mouseX, mouseY, 30, 3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4920" y="4568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ourier New"/>
              </a:rPr>
              <a:t>Controlling the draw lo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Rate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p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ets number of frames displayed per seco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.e. the number of times draw() is called 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econd. Default = 6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Loop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tops continuously calling draw(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Resumes calling draw(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17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Grap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(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ve (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ézier(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pe(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440" y="380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rc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is a section of an elli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, width, h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ion and size of the elli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, 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c bounding angles (in radian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33760" y="13525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( x, y, width, height, start, stop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85880" y="2057400"/>
            <a:ext cx="577224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833760" y="13525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( x, y, width, height, start, stop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6520" y="3808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line Cur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plin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 A smooth line drawn through a series of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urv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is a Catmull-Rom (cubic Hermite) spline defined by four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71880" indent="-457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2, y2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3, y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ginning/end points of visual part of cu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 y1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4, y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trol points that define curve curv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8112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ve( x1, y1, x2, y2, x3, y3, x4, y4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1T18:17:51Z</dcterms:created>
  <dc:creator>Admin</dc:creator>
  <dc:description/>
  <dc:language>en-US</dc:language>
  <cp:lastModifiedBy>Dianna Xu</cp:lastModifiedBy>
  <dcterms:modified xsi:type="dcterms:W3CDTF">2012-01-19T01:57:27Z</dcterms:modified>
  <cp:revision>116</cp:revision>
  <dc:subject/>
  <dc:title>PowerPoint Presentation</dc:title>
</cp:coreProperties>
</file>